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A7E-60E7-488F-AD74-7B853453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CCB-7DB4-4986-B4FC-3048E26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391-8DB8-464F-B903-C3DC7BB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9C3-840E-4AF4-BDF7-C24D078D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FB0-5B67-44F4-AF5C-F3D069A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4B8-4F55-4B50-83B4-CDCDCC9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3E4-C352-484C-BDE5-C2CD4EE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58A-9BE4-4B11-AA9D-2206ECC9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AEF-9183-4DF0-AB76-843E3C80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925-326F-4467-BA9B-52E8225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047-58D1-42FB-BE18-E16F9D22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C9B-5770-4566-950B-DF65FB3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9330-038D-4514-BB5F-8A097892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kana no K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4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Contributing to 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° longitude, 55° la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kana no Kuni is a island east of Japan, which mixes both warm and cold climates. Since it i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iddle of both cold and warm water currents, it can get very warm in the summer and very col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inter. The island earns most of the money with trade of fish and other seafood, so with bo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eties of water currents, it has the advantage of catching fishes of both habitats. Beside seafoo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land is also lush of vegetables, fruits on the southern side and evergreen forests on the n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eople choose to live on the south coast while fishermen live on the north coast for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our island has a major trade of fish and other seafood, it has both cold and warm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s coming at it. It gives it an advantage of catching fish of different water and habitats, but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affects the climate, which has a major difference between seasons. In the winter the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drop down as low as 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on the south end of the island, where most people live, and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th part of the island it may be as low as 10°c. On the other hand, the temperature dur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mmer on the south coast can be as high as 40°c, and 30°c on the northern end. The 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so depends on the water currents as well. The average annual precipitation of the whole island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ut 60 inches. About 65 on the south, where it’s more humid, and 55 further north, where it 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ow and hail rather than r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447920"/>
          <a:ext cx="861048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104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1:15:27Z</dcterms:created>
  <dc:creator>Administrator</dc:creator>
  <dc:description/>
  <dc:language>en-US</dc:language>
  <cp:lastModifiedBy>Administrator</cp:lastModifiedBy>
  <dcterms:modified xsi:type="dcterms:W3CDTF">2007-11-07T00:58:17Z</dcterms:modified>
  <cp:revision>8</cp:revision>
  <dc:subject/>
  <dc:title>Slide 1</dc:title>
</cp:coreProperties>
</file>