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357-DDB1-46BF-9336-A4360724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D8D-0EC0-41E0-829B-7FE915F8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3C3-A1D5-4EDB-AC4C-C6836ED3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EC0-934F-48A1-B08D-69F34272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4AE-5502-4692-968A-95594F02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C4E-3F75-4552-A63C-E008A6FA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04D-BFDB-442F-934C-5D85417F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665-C5EC-479B-88FC-C91C7FF9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F0C-C455-440A-9B06-7798B25A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DC4-BA6C-49B1-8CB5-5FB3E79D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51B-FA9F-410D-BA23-F3A5F645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9E1-7565-4AE2-B95F-68BC1E9A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3CE7-8325-491C-AF03-08DB43C0E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kana no K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5486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Contributing to Cl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 longitude, 55° lat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kana no Kuni is a island east of Japan, which mixes both warm and cold climates. Since it i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iddle of both cold and warm water currents, it can get very warm in the summer and very col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inter. The island earns most of the money with trade of fish and other seafood, so with bo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eties of water currents, it has the advantage of catching fishes of both habitats. Beside seafo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sland is also lush of vegetables, fruits on the southern side and evergreen forests on the nor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eople choose to live on the south coast while fishermen live on the north coast for f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our island has a major trade of fish and other seafood, it has both cold and warm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s coming at it. It gives it an advantage of catching fish of different water and habitats, but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affects the climate, which has a major difference between seasons. In the winter the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drop down as low as 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c on the south end of the island, where most people live, and o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rth part of the island it may be as low as 10°c. On the other hand, the temperature during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mmer on the south coast can be as high as 40°c, and 30°c on the northern end. The precip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so depends on the water currents as well. The average annual precipitation of the whole island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ut 60 inches. About 65 on the south, where it’s more humid, and 55 further north, where it 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ow and hail rather than r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nd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447920"/>
          <a:ext cx="861048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104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1:15:27Z</dcterms:created>
  <dc:creator>Administrator</dc:creator>
  <dc:description/>
  <dc:language>en-US</dc:language>
  <cp:lastModifiedBy>Administrator</cp:lastModifiedBy>
  <dcterms:modified xsi:type="dcterms:W3CDTF">2007-11-07T00:58:17Z</dcterms:modified>
  <cp:revision>8</cp:revision>
  <dc:subject/>
  <dc:title>Slide 1</dc:title>
</cp:coreProperties>
</file>