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BCA1-8691-43B8-8710-52F14A8A0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CD8E-BBF9-4E68-8F07-A3D343A90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1AFF-8523-44E4-9A12-FCA98490F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FACE-2FE3-4394-B706-55DDA525D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94C2-FDAC-4F7B-936E-1280507FF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5343-33F5-44D2-B484-57398EFA0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AF89-DD46-49DE-8B85-6D49C6A3C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622D-244F-461C-AE1C-1799474FE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DB5C-612C-4D55-9649-BD973BAFB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D1C4-3B11-4D69-AECA-A4BBD1CD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AAE6-9649-4B1A-AC48-361A24D7A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29ED-043F-42CD-BA7E-B1039841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9C7EB-D1BF-4B16-A4EF-924C5A3913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kana no Ku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133720" y="1295280"/>
            <a:ext cx="54864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actors Contributing to Clim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ean Cur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d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8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° longitude, 55° latit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830592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kana no Kuni is a island east of Japan, which mixes both warm and cold climates. Since it is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middle of both cold and warm water currents, it can get very warm in the summer and very cold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winter. The island earns most of the money with trade of fish and other seafood, so with bot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rieties of water currents, it has the advantage of catching fishes of both habitats. Beside seafood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island is also lush of vegetables, fruits on the southern side and evergreen forests on the nort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st people choose to live on the south coast while fishermen live on the north coast for fis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nce our island has a major trade of fish and other seafood, it has both cold and warm wa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s coming at it. It gives it an advantage of catching fish of different water and habitats, but th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so affects the climate, which has a major difference between seasons. In the winter the tempera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 drop down as low as 1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°c on the south end of the island, where most people live, and on 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orth part of the island it may be as low as 10°c. On the other hand, the temperature during 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ummer on the south coast can be as high as 40°c, and 30°c on the northern end. The precipi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lso depends on the water currents as well. The average annual precipitation of the whole island 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bout 60 inches. About 65 on the south, where it’s more humid, and 55 further north, where it g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now and hail rather than rai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land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28600" y="1447920"/>
          <a:ext cx="8610480" cy="5105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47920"/>
                    <a:ext cx="8610480" cy="51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01:15:27Z</dcterms:created>
  <dc:creator>Administrator</dc:creator>
  <dc:description/>
  <dc:language>en-US</dc:language>
  <cp:lastModifiedBy>Administrator</cp:lastModifiedBy>
  <dcterms:modified xsi:type="dcterms:W3CDTF">2007-11-07T00:58:17Z</dcterms:modified>
  <cp:revision>8</cp:revision>
  <dc:subject/>
  <dc:title>Slide 1</dc:title>
</cp:coreProperties>
</file>