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240-1B84-4BFC-AB3D-63C6F03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583-DF2F-435F-B510-D0D4C153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672-805D-4F35-B8E4-6CFD94D7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DAC-C301-4BBF-AA6D-3F4029F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A2A-CCD3-4A55-BB6F-79604F1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3FF-9863-4D8E-BFB9-EFA4076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A8D-77B8-4047-92C6-391BEF8F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533-4597-4A25-995E-F72E4ECD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9EB-4C90-4F32-908D-948D5C3E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1D3-AC06-4BAF-8F9C-658BAB1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472-F743-4108-815D-EC966BD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C99-3903-4D3B-84B7-AE6A8DB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857A-510B-4EC0-88B8-F9628C94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kana no K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4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Contributing to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 longitude, 55° la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kana no Kuni is a island east of Japan, which mixes both warm and cold climates. Since it i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iddle of both cold and warm water currents, it can get very warm in the summer and very col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inter. The island earns most of the money with trade of fish and other seafood, so with bo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eties of water currents, it has the advantage of catching fishes of both habitats. Beside seafo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land is also lush of vegetables, fruits on the southern side and evergreen forests on the n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eople choose to live on the south coast while fishermen live on the north coast for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our island has a major trade of fish and other seafood, it has both cold and warm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s coming at it. It gives it an advantage of catching fish of different water and habitats, but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affects the climate, which has a major difference between seasons. In the winter the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drop down as low as 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on the south end of the island, where most people live, and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th part of the island it may be as low as 10°c. On the other hand, the temperature dur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mmer on the south coast can be as high as 40°c, and 30°c on the northern end. The 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so depends on the water currents as well. The average annual precipitation of the whole island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 60 inches. About 65 on the south, where it’s more humid, and 55 further north, where it 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ow and hail rather than 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447920"/>
          <a:ext cx="861048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104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1:15:27Z</dcterms:created>
  <dc:creator>Administrator</dc:creator>
  <dc:description/>
  <dc:language>en-US</dc:language>
  <cp:lastModifiedBy>Administrator</cp:lastModifiedBy>
  <dcterms:modified xsi:type="dcterms:W3CDTF">2007-11-07T00:58:17Z</dcterms:modified>
  <cp:revision>8</cp:revision>
  <dc:subject/>
  <dc:title>Slide 1</dc:title>
</cp:coreProperties>
</file>